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6BD3-99C5-4998-A269-8C614F002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63990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4200" y="4109400"/>
            <a:ext cx="63990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4BC6-01A2-454B-88D7-E8266BBC7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563440" y="190476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4200" y="410940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563440" y="410940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FB41-9299-4E46-9FF9-99C718D77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20602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447800" y="1904760"/>
            <a:ext cx="20602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11400" y="1904760"/>
            <a:ext cx="20602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4200" y="4109400"/>
            <a:ext cx="20602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447800" y="4109400"/>
            <a:ext cx="20602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11400" y="4109400"/>
            <a:ext cx="20602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7F0F-E664-452E-AE0E-C63EF3437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94CB5-69E4-4B6A-8C73-EB352535E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4200" y="1904760"/>
            <a:ext cx="639900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58B7A-080B-41DF-ADD6-5E7273F83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63990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CEFDA-0C39-4200-BC7A-ED308AF3E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312264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563440" y="1904760"/>
            <a:ext cx="312264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4F644-A215-45FB-91DB-827B94BC5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CE141-CCAC-4F76-9BD2-7CF2E290F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4200" y="533520"/>
            <a:ext cx="63990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6AC3E-A329-40E6-8B94-B87CD3E2F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563440" y="1904760"/>
            <a:ext cx="312264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4200" y="410940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DA540-7EBE-4152-91DC-CBD0CF2AC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4200" y="1904760"/>
            <a:ext cx="639900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EBB2-B1CC-4608-936B-5D3DE10A5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312264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63440" y="190476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563440" y="410940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82C1A-C8F0-4E3A-9362-600A2C49E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63440" y="190476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4200" y="4109400"/>
            <a:ext cx="63990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AE3DE-1379-4D90-A40D-2C6FE40C7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63990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4200" y="4109400"/>
            <a:ext cx="63990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86C46-0104-409C-8137-8091B7347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563440" y="190476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4200" y="410940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563440" y="410940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53A79-077F-4D5D-8C4C-70AE7D041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20602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47800" y="1904760"/>
            <a:ext cx="20602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11400" y="1904760"/>
            <a:ext cx="20602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4200" y="4109400"/>
            <a:ext cx="20602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447800" y="4109400"/>
            <a:ext cx="20602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11400" y="4109400"/>
            <a:ext cx="20602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B7110-9AA6-4148-B8A0-77467DC1E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342E30-8C1C-4798-AD54-1721273E6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4200" y="1904760"/>
            <a:ext cx="639900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F607C3-52E8-44AA-B3BF-792736900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63990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4A6C67-0DA5-4E39-92EC-129D67ACC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312264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563440" y="1904760"/>
            <a:ext cx="312264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4E62D8-8C20-4866-9278-718D6582C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3E5A43-362F-43D4-8529-559621BB8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63990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B6A0-9FA4-4E97-B645-998202C98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284200" y="533520"/>
            <a:ext cx="63990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A5C5F8-EF7B-4536-A931-0A7472E88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563440" y="1904760"/>
            <a:ext cx="312264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4200" y="410940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E52A4F-C9D3-4D6C-A2D9-F5DBE49AB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312264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563440" y="190476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563440" y="410940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E49BB5-9E57-435E-8B49-D9E5E0A68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563440" y="190476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4200" y="4109400"/>
            <a:ext cx="63990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6DD094-4F4A-4442-AA66-D43AFC34A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63990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4200" y="4109400"/>
            <a:ext cx="63990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2227E2-E6BA-490F-95FD-1D7D9B25E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563440" y="190476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4200" y="410940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563440" y="410940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A0535E-7A95-47B5-BFE6-F5FD19A1B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20602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447800" y="1904760"/>
            <a:ext cx="20602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611400" y="1904760"/>
            <a:ext cx="20602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4200" y="4109400"/>
            <a:ext cx="20602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447800" y="4109400"/>
            <a:ext cx="20602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611400" y="4109400"/>
            <a:ext cx="20602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208628-6FA2-478B-852B-D596BEDF7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6CB488-FEBE-4EDD-8751-5AF478C56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284200" y="1904760"/>
            <a:ext cx="639900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6BD63C-1299-408D-AB45-6F581493F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63990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1A503A-DB6B-4D8F-ADD4-235F12C36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312264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563440" y="1904760"/>
            <a:ext cx="312264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8D48-30D4-4AD4-8C32-8D31B7DCF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312264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563440" y="1904760"/>
            <a:ext cx="312264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E8A13D-1FCF-4A2C-A1CE-1F5F8E7BD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F4A671-C48A-4082-BFB4-F88439249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284200" y="533520"/>
            <a:ext cx="63990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92C19A-6343-4404-82E8-4BEBB525A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563440" y="1904760"/>
            <a:ext cx="312264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284200" y="410940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DA8DCC-A7A0-4AF4-98B4-C48635C72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312264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563440" y="190476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563440" y="410940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5433B0-2B6B-49F7-BE7E-D46069419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563440" y="190476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284200" y="4109400"/>
            <a:ext cx="63990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6B5806-B21E-4335-B2D3-7A11CA1A8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63990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284200" y="4109400"/>
            <a:ext cx="63990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B90B12-E8CD-4242-9001-782C3E380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563440" y="190476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284200" y="410940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563440" y="410940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091E05-2300-4ACE-8DD2-2F0AE5F56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20602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447800" y="1904760"/>
            <a:ext cx="20602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611400" y="1904760"/>
            <a:ext cx="20602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284200" y="4109400"/>
            <a:ext cx="20602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447800" y="4109400"/>
            <a:ext cx="20602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611400" y="4109400"/>
            <a:ext cx="20602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423828-5AC9-42C8-96DD-C5736AC0C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15ED-2051-46DF-854A-EF96BB4A2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4200" y="533520"/>
            <a:ext cx="63990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2B84-979C-4B26-A10D-2DA6F435A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563440" y="1904760"/>
            <a:ext cx="312264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4200" y="410940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072B-72AC-4B13-A665-ECC0CF51B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312264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563440" y="190476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563440" y="410940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AFA7-72D1-4BDC-AA03-8C74E5D5A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63440" y="190476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4200" y="4109400"/>
            <a:ext cx="63990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D3BA-3F42-4F82-9A5A-55C19BCA6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9FFF8-512D-4485-8FBE-4837A348B5AF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284200" y="1904760"/>
            <a:ext cx="63990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5204F-D2B6-4A7C-B2DC-F463F5B48DDF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CCAAD-188C-419D-99D3-ED6BAF5C5B91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2284200" y="1904760"/>
            <a:ext cx="63990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4B310-D962-4AC0-946B-40D538674C46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1285920"/>
            <a:ext cx="7772400" cy="205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200" spc="-1" strike="noStrike">
                <a:solidFill>
                  <a:srgbClr val="000000"/>
                </a:solidFill>
                <a:latin typeface="Arial"/>
              </a:rPr>
              <a:t>Молодежные субкультуры</a:t>
            </a:r>
            <a:endParaRPr b="0" lang="en-US" sz="5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2747520" y="3713040"/>
            <a:ext cx="6396120" cy="69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Verdana"/>
              </a:rPr>
              <a:t>Авторы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0" y="285840"/>
            <a:ext cx="807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школ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2000160" y="5072040"/>
            <a:ext cx="44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Руководитель: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Что влияет на поведение подростка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Цели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Ход исследования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Выводы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058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Используемые материалы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3T04:39:01Z</dcterms:created>
  <dc:creator>Helena</dc:creator>
  <dc:description/>
  <dc:language>en-US</dc:language>
  <cp:lastModifiedBy>Admin</cp:lastModifiedBy>
  <dcterms:modified xsi:type="dcterms:W3CDTF">2009-12-01T16:54:59Z</dcterms:modified>
  <cp:revision>62</cp:revision>
  <dc:subject/>
  <dc:title>Слайд 1</dc:title>
</cp:coreProperties>
</file>